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jpeg" ContentType="image/jpeg"/>
  <Override PartName="/ppt/media/image16.png" ContentType="image/png"/>
  <Override PartName="/ppt/media/chimes.wav" ContentType="audio/x-wav"/>
  <Override PartName="/ppt/media/laser.wav" ContentType="audio/x-wav"/>
  <Override PartName="/ppt/media/image4.png" ContentType="image/png"/>
  <Override PartName="/ppt/media/image12.jpeg" ContentType="image/jpeg"/>
  <Override PartName="/ppt/media/image13.png" ContentType="image/png"/>
  <Override PartName="/ppt/media/cashreg.wav" ContentType="audio/x-wav"/>
  <Override PartName="/ppt/media/image6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5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camera.wav" ContentType="audio/x-wav"/>
  <Override PartName="/ppt/media/image22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media/explod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73B-5190-469A-ABF9-CD930E32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B6D-C94C-42B1-BEC9-BC279D5D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B4D-671B-48CE-BD15-EE43933E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D0A-02BA-4A37-973A-94A33448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412F-F335-4CB3-A1B7-8A84F113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2AB6-4915-4791-A855-F4D7EA22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567C-F9A7-45B6-BEBA-7F4F27ED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CABC-AB3D-4BD1-8350-22D58D90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20EB-F3AA-40EB-9004-509A40B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F337-E505-4B11-AB41-8B8BA61E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566-9BFB-426C-BCD5-8A8969B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C19-F580-495C-86A7-4D7C896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190-6DFE-4416-ABAA-5AF6BAB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90A8-5471-42E2-8B2B-D444A69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F4A-D132-4873-9F68-D8AA8CA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CB0-8016-4B33-83AB-80DD2545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A3B9-109E-4D2F-9F3B-C5A96A95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FEAF-815B-407A-B105-0A8F377A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D5C1-2FCC-44A5-A1C5-1451F2A3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B988-DA1A-4EF3-80C9-C161C9F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E237-E5C0-481A-A018-09D1A6C7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C5DF-6FF5-488C-97F5-D1046D0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FA6-2B49-4A0D-9217-1A6FA8C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A108-97D9-4941-A9A5-54B0A27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B176-AEE6-42C7-9D64-453FBE6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73DA-BA2A-4040-AA23-FA31FD2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7186-EADE-4162-82B0-8ABE840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F057-837D-437F-B820-C72E558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51B0-DE68-4AAB-B337-EEBED0EA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572C-10CD-4679-BE96-97F53F30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7094-CCF5-4893-82D3-B45D2D96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DD0E-5839-4105-8165-A882151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5309-EFBC-40DA-B509-242E6D0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E82-3EE8-490F-8C18-45E46B3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4EE0-59A9-49E5-9C30-587F0E30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570A-71EA-4F3D-B106-BA14B6EC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34D0-D47A-4EAF-AFB5-9A36F0C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36B4-78FA-4A87-95FE-B762B10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C83F-4F5A-4536-A43B-99D31C8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DC6C-25AF-4D26-9DB5-EFC7051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D17F-D368-4D50-833B-E707F4E1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C6A3-1453-407F-BFDE-FE729EF2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F3CC-A6A4-419B-AA10-0AC1BDB4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4689-CEF7-4973-B830-630724A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C9C-4137-4712-908D-2A85D0E5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4E00-2945-4863-BF1F-B9A069B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1365-BBE3-415C-B784-284378E1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1ACC-059E-42FE-B3A0-C460B15C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3358-7937-41DC-9572-56E45364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B0A0-A215-4B2D-958C-E9B995B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EBC3D-E4C0-45BE-94F9-591B715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B6CD-4321-49AB-9E37-0E74E44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026D-119F-48FE-8B48-FDEF901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3AD7-11C6-4A79-B180-04B7D47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0CDC-CBF7-4F60-A384-765674D0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BE2-AEE3-46FD-83A9-9C30331C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A9EB-9625-41FA-8363-299DB8F5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C04-B47C-4BC4-910C-62EA407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527-AAFE-4CC2-A640-88BBEED7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586-1D8B-4B85-AA33-323048D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D04C-A7D3-4384-8672-4CA2506FD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5FA-395F-4822-9F42-3827D1D0F60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未知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057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组合 206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组合 2068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组合 2075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组合 2084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087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80" name="组合 2088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81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组合 2090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83" name="未知"/>
                <p:cNvSpPr/>
                <p:nvPr/>
              </p:nvSpPr>
              <p:spPr>
                <a:xfrm rot="18427200">
                  <a:off x="784044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7970400" y="4921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7666920" y="25596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8366760" y="139608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18427200">
                  <a:off x="8296560" y="1249920"/>
                  <a:ext cx="2905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18427200">
                  <a:off x="7870320" y="295200"/>
                  <a:ext cx="2901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18427200">
                  <a:off x="7812360" y="18468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直接连接符 2099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8BA-0D8F-4314-980D-A2D25EDA83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7A4-C5B5-4C7A-B469-2E48D34ABA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3079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2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3083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6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组合 3089"/>
          <p:cNvGrpSpPr/>
          <p:nvPr/>
        </p:nvGrpSpPr>
        <p:grpSpPr>
          <a:xfrm>
            <a:off x="7763040" y="4311000"/>
            <a:ext cx="1004040" cy="1174680"/>
            <a:chOff x="7763040" y="4311000"/>
            <a:chExt cx="1004040" cy="1174680"/>
          </a:xfrm>
        </p:grpSpPr>
        <p:sp>
          <p:nvSpPr>
            <p:cNvPr id="222" name="未知"/>
            <p:cNvSpPr/>
            <p:nvPr/>
          </p:nvSpPr>
          <p:spPr>
            <a:xfrm rot="7320000">
              <a:off x="7751880" y="46353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 rot="7320000">
              <a:off x="7914240" y="458244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组合 3093"/>
            <p:cNvGrpSpPr/>
            <p:nvPr/>
          </p:nvGrpSpPr>
          <p:grpSpPr>
            <a:xfrm>
              <a:off x="7763040" y="4311000"/>
              <a:ext cx="1004040" cy="1174680"/>
              <a:chOff x="7763040" y="4311000"/>
              <a:chExt cx="1004040" cy="1174680"/>
            </a:xfrm>
          </p:grpSpPr>
          <p:sp>
            <p:nvSpPr>
              <p:cNvPr id="226" name="未知"/>
              <p:cNvSpPr/>
              <p:nvPr/>
            </p:nvSpPr>
            <p:spPr>
              <a:xfrm rot="7320000">
                <a:off x="7919280" y="5019840"/>
                <a:ext cx="93600" cy="102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7320000">
                <a:off x="7735320" y="4637160"/>
                <a:ext cx="1058760" cy="522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7320000">
                <a:off x="8064360" y="4749480"/>
                <a:ext cx="749160" cy="2955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7320000">
                <a:off x="8508960" y="4515120"/>
                <a:ext cx="100080" cy="1980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7320000">
                <a:off x="8132760" y="4715640"/>
                <a:ext cx="306360" cy="174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442-163D-493B-B121-D0F22C80026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533520" y="2133720"/>
            <a:ext cx="8280360" cy="58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宋体"/>
              </a:rPr>
              <a:t>候课要求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保持安静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坐姿端正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准备好学习用具                                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（课本，练习本，红笔，蓝笔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第二单元 第四课时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内容占位符 2" descr=""/>
          <p:cNvPicPr/>
          <p:nvPr/>
        </p:nvPicPr>
        <p:blipFill>
          <a:blip r:embed="rId1"/>
          <a:stretch/>
        </p:blipFill>
        <p:spPr>
          <a:xfrm>
            <a:off x="14400" y="19080"/>
            <a:ext cx="9113760" cy="72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400" y="-6480"/>
            <a:ext cx="9115200" cy="68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1) be surprised to do sth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对做某事感到惊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s surprised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ind that he could speak four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2) be surprised at + n./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代词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动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对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..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感到惊奇 主语是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urprised 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3) be surprised + that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从句 对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..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很惊讶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吃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'm surprised t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are the only one to think in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 my surpr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my brother was no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urpris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urpris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内容占位符 2" descr=""/>
          <p:cNvPicPr/>
          <p:nvPr/>
        </p:nvPicPr>
        <p:blipFill>
          <a:blip r:embed="rId1"/>
          <a:stretch/>
        </p:blipFill>
        <p:spPr>
          <a:xfrm>
            <a:off x="-11160" y="6480"/>
            <a:ext cx="9153720" cy="68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文本框 2" descr=""/>
          <p:cNvPicPr/>
          <p:nvPr/>
        </p:nvPicPr>
        <p:blipFill>
          <a:blip r:embed="rId1"/>
          <a:stretch/>
        </p:blipFill>
        <p:spPr>
          <a:xfrm>
            <a:off x="1440" y="0"/>
            <a:ext cx="91393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"/>
          <p:cNvSpPr/>
          <p:nvPr/>
        </p:nvSpPr>
        <p:spPr>
          <a:xfrm>
            <a:off x="-9360" y="663480"/>
            <a:ext cx="9154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通过某种方式、手段，后接名词、代词、动名词形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made money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rit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她靠写作挣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succeeded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他通过努力工作获得了成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的短语：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oneself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独自地，单独地；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the 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顺便说一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chance/by accident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偶然地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mistak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误会，弄错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 by heart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记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文本框 1" descr=""/>
          <p:cNvPicPr/>
          <p:nvPr/>
        </p:nvPicPr>
        <p:blipFill>
          <a:blip r:embed="rId1"/>
          <a:stretch/>
        </p:blipFill>
        <p:spPr>
          <a:xfrm>
            <a:off x="-39600" y="3240"/>
            <a:ext cx="924084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文本框 1" descr=""/>
          <p:cNvPicPr/>
          <p:nvPr/>
        </p:nvPicPr>
        <p:blipFill>
          <a:blip r:embed="rId1"/>
          <a:stretch/>
        </p:blipFill>
        <p:spPr>
          <a:xfrm>
            <a:off x="-19080" y="-270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内容占位符 2" descr=""/>
          <p:cNvPicPr/>
          <p:nvPr/>
        </p:nvPicPr>
        <p:blipFill>
          <a:blip r:embed="rId1"/>
          <a:stretch/>
        </p:blipFill>
        <p:spPr>
          <a:xfrm>
            <a:off x="-12600" y="6480"/>
            <a:ext cx="9140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文本框 1" descr=""/>
          <p:cNvPicPr/>
          <p:nvPr/>
        </p:nvPicPr>
        <p:blipFill>
          <a:blip r:embed="rId1"/>
          <a:stretch/>
        </p:blipFill>
        <p:spPr>
          <a:xfrm>
            <a:off x="19080" y="111240"/>
            <a:ext cx="870588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内容占位符 2" descr=""/>
          <p:cNvPicPr/>
          <p:nvPr/>
        </p:nvPicPr>
        <p:blipFill>
          <a:blip r:embed="rId1"/>
          <a:stretch/>
        </p:blipFill>
        <p:spPr>
          <a:xfrm>
            <a:off x="-25560" y="-31680"/>
            <a:ext cx="91663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7169" descr="图片1"/>
          <p:cNvPicPr/>
          <p:nvPr/>
        </p:nvPicPr>
        <p:blipFill>
          <a:blip r:embed="rId1"/>
          <a:stretch/>
        </p:blipFill>
        <p:spPr>
          <a:xfrm>
            <a:off x="-136440" y="-212760"/>
            <a:ext cx="9128160" cy="68421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Unit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How often do you exercis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Lesson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4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文本框 1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72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内容占位符 2" descr=""/>
          <p:cNvPicPr/>
          <p:nvPr/>
        </p:nvPicPr>
        <p:blipFill>
          <a:blip r:embed="rId1"/>
          <a:stretch/>
        </p:blipFill>
        <p:spPr>
          <a:xfrm>
            <a:off x="-12600" y="-4680"/>
            <a:ext cx="912816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6385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深入学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根据提纲上的提示完成知识点，</a:t>
            </a: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钟之后找同学展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求：大胆，大方，大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You are the best !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                 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答案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4800" y="883800"/>
            <a:ext cx="828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about; to clean;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保持一致；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re 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数；复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 to    7. by;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. so; such;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垂死的，要死的； 死的，无生命的；死亡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. a two-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超出，超过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19457" descr="边框10"/>
          <p:cNvPicPr/>
          <p:nvPr/>
        </p:nvPicPr>
        <p:blipFill>
          <a:blip r:embed="rId1"/>
          <a:stretch/>
        </p:blipFill>
        <p:spPr>
          <a:xfrm>
            <a:off x="-517680" y="0"/>
            <a:ext cx="10020600" cy="6929280"/>
          </a:xfrm>
          <a:prstGeom prst="rect">
            <a:avLst/>
          </a:prstGeom>
          <a:ln w="0">
            <a:noFill/>
          </a:ln>
        </p:spPr>
      </p:pic>
      <p:sp>
        <p:nvSpPr>
          <p:cNvPr id="325" name="矩形 19458"/>
          <p:cNvSpPr txBox="1"/>
          <p:nvPr/>
        </p:nvSpPr>
        <p:spPr>
          <a:xfrm rot="20811000">
            <a:off x="1908000" y="62064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行楷"/>
              </a:rPr>
              <a:t>总结一下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文本框 19459"/>
          <p:cNvSpPr/>
          <p:nvPr/>
        </p:nvSpPr>
        <p:spPr>
          <a:xfrm>
            <a:off x="826920" y="1668600"/>
            <a:ext cx="71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9460"/>
          <p:cNvSpPr/>
          <p:nvPr/>
        </p:nvSpPr>
        <p:spPr>
          <a:xfrm>
            <a:off x="914400" y="28954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… 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矩形 1" descr=""/>
          <p:cNvPicPr/>
          <p:nvPr/>
        </p:nvPicPr>
        <p:blipFill>
          <a:blip r:embed="rId1"/>
          <a:stretch/>
        </p:blipFill>
        <p:spPr>
          <a:xfrm>
            <a:off x="2644920" y="2828880"/>
            <a:ext cx="4017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20481" descr="012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-281520" y="0"/>
            <a:ext cx="9425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</a:rPr>
              <a:t>当堂检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求：书写规范，独立完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i="1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zh-CN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i="1" lang="en-NZ" sz="5400" spc="-1" strike="noStrike">
                <a:solidFill>
                  <a:srgbClr val="000099"/>
                </a:solidFill>
                <a:latin typeface="Times New Roman"/>
              </a:rPr>
              <a:t>ome on </a:t>
            </a:r>
            <a:r>
              <a:rPr b="0" i="1" lang="zh-CN" sz="5400" spc="-1" strike="noStrike">
                <a:solidFill>
                  <a:srgbClr val="000099"/>
                </a:solidFill>
                <a:latin typeface="Times New Roman"/>
              </a:rPr>
              <a:t>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explod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13472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D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ed  2. Although; heal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Maybe  4. Such  5.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goes; went    2. buy; bought 3. exercises     4. to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 twice           6. har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. is              8. activitie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22529"/>
          <p:cNvSpPr txBox="1"/>
          <p:nvPr/>
        </p:nvSpPr>
        <p:spPr>
          <a:xfrm>
            <a:off x="152280" y="1676520"/>
            <a:ext cx="541044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015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000000">
                    <a:alpha val="74000"/>
                  </a:srgbClr>
                </a:solidFill>
                <a:latin typeface="宋体"/>
              </a:rPr>
              <a:t>Thank you for listening</a:t>
            </a:r>
            <a:r>
              <a:rPr b="1" lang="zh-CN" sz="66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000000">
                    <a:alpha val="74000"/>
                  </a:srgbClr>
                </a:solidFill>
                <a:latin typeface="宋体"/>
              </a:rPr>
              <a:t>！！！</a:t>
            </a:r>
            <a:endParaRPr b="1" lang="en-US" sz="6600" spc="1" strike="noStrike">
              <a:ln w="9360">
                <a:solidFill>
                  <a:srgbClr val="cc0000"/>
                </a:solidFill>
                <a:round/>
              </a:ln>
              <a:solidFill>
                <a:srgbClr val="000000">
                  <a:alpha val="74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34" name="矩形 22530"/>
          <p:cNvSpPr txBox="1"/>
          <p:nvPr/>
        </p:nvSpPr>
        <p:spPr>
          <a:xfrm>
            <a:off x="533520" y="2819520"/>
            <a:ext cx="4019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Bye-by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newsflash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"/>
          <p:cNvPicPr/>
          <p:nvPr/>
        </p:nvPicPr>
        <p:blipFill>
          <a:blip r:embed="rId1"/>
          <a:stretch/>
        </p:blipFill>
        <p:spPr>
          <a:xfrm>
            <a:off x="2500200" y="357120"/>
            <a:ext cx="1643040" cy="1657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j0232988[1]"/>
          <p:cNvPicPr/>
          <p:nvPr/>
        </p:nvPicPr>
        <p:blipFill>
          <a:blip r:embed="rId2"/>
          <a:stretch/>
        </p:blipFill>
        <p:spPr>
          <a:xfrm>
            <a:off x="357120" y="28584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儿童节韩国儿童矢量素材 - 男孩女孩篇 - 男孩女孩向量图77"/>
          <p:cNvPicPr/>
          <p:nvPr/>
        </p:nvPicPr>
        <p:blipFill>
          <a:blip r:embed="rId3"/>
          <a:stretch/>
        </p:blipFill>
        <p:spPr>
          <a:xfrm>
            <a:off x="6858000" y="428760"/>
            <a:ext cx="2071800" cy="16826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2" descr=""/>
          <p:cNvPicPr/>
          <p:nvPr/>
        </p:nvPicPr>
        <p:blipFill>
          <a:blip r:embed="rId4"/>
          <a:stretch/>
        </p:blipFill>
        <p:spPr>
          <a:xfrm>
            <a:off x="4357800" y="14292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" descr=""/>
          <p:cNvPicPr/>
          <p:nvPr/>
        </p:nvPicPr>
        <p:blipFill>
          <a:blip r:embed="rId5"/>
          <a:stretch/>
        </p:blipFill>
        <p:spPr>
          <a:xfrm>
            <a:off x="214200" y="4357800"/>
            <a:ext cx="1895760" cy="20714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4" descr="shop-1.jpg"/>
          <p:cNvPicPr/>
          <p:nvPr/>
        </p:nvPicPr>
        <p:blipFill>
          <a:blip r:embed="rId6"/>
          <a:stretch/>
        </p:blipFill>
        <p:spPr>
          <a:xfrm>
            <a:off x="4572000" y="45007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5" descr="watch TV-1.jpg"/>
          <p:cNvPicPr/>
          <p:nvPr/>
        </p:nvPicPr>
        <p:blipFill>
          <a:blip r:embed="rId7"/>
          <a:srcRect l="17189" t="3663" r="14063" b="15249"/>
          <a:stretch/>
        </p:blipFill>
        <p:spPr>
          <a:xfrm>
            <a:off x="6858000" y="45007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86a031f89ef964a29f51466c"/>
          <p:cNvPicPr/>
          <p:nvPr/>
        </p:nvPicPr>
        <p:blipFill>
          <a:blip r:embed="rId8"/>
          <a:stretch/>
        </p:blipFill>
        <p:spPr>
          <a:xfrm>
            <a:off x="2286000" y="4357800"/>
            <a:ext cx="2000160" cy="2071440"/>
          </a:xfrm>
          <a:prstGeom prst="rect">
            <a:avLst/>
          </a:prstGeom>
          <a:ln w="0">
            <a:noFill/>
          </a:ln>
        </p:spPr>
      </p:pic>
      <p:sp>
        <p:nvSpPr>
          <p:cNvPr id="286" name="矩形 1"/>
          <p:cNvSpPr/>
          <p:nvPr/>
        </p:nvSpPr>
        <p:spPr>
          <a:xfrm>
            <a:off x="1428840" y="2286000"/>
            <a:ext cx="62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you d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week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26"/>
          <p:cNvGrpSpPr/>
          <p:nvPr/>
        </p:nvGrpSpPr>
        <p:grpSpPr>
          <a:xfrm>
            <a:off x="285840" y="2928960"/>
            <a:ext cx="8858160" cy="1191240"/>
            <a:chOff x="285840" y="2928960"/>
            <a:chExt cx="8858160" cy="1191240"/>
          </a:xfrm>
        </p:grpSpPr>
        <p:grpSp>
          <p:nvGrpSpPr>
            <p:cNvPr id="288" name="组合 25"/>
            <p:cNvGrpSpPr/>
            <p:nvPr/>
          </p:nvGrpSpPr>
          <p:grpSpPr>
            <a:xfrm>
              <a:off x="857160" y="2928960"/>
              <a:ext cx="4860720" cy="1111680"/>
              <a:chOff x="857160" y="2928960"/>
              <a:chExt cx="4860720" cy="1111680"/>
            </a:xfrm>
          </p:grpSpPr>
          <p:sp>
            <p:nvSpPr>
              <p:cNvPr id="289" name="矩形 4"/>
              <p:cNvSpPr/>
              <p:nvPr/>
            </p:nvSpPr>
            <p:spPr>
              <a:xfrm>
                <a:off x="857160" y="2928960"/>
                <a:ext cx="4860720" cy="1111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24"/>
              <p:cNvSpPr/>
              <p:nvPr/>
            </p:nvSpPr>
            <p:spPr>
              <a:xfrm>
                <a:off x="948240" y="3024000"/>
                <a:ext cx="465408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矩形 22"/>
            <p:cNvSpPr/>
            <p:nvPr/>
          </p:nvSpPr>
          <p:spPr>
            <a:xfrm>
              <a:off x="928440" y="2928960"/>
              <a:ext cx="47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always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usually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ofte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sometimes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neve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23"/>
            <p:cNvSpPr/>
            <p:nvPr/>
          </p:nvSpPr>
          <p:spPr>
            <a:xfrm>
              <a:off x="285840" y="314316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24"/>
            <p:cNvSpPr/>
            <p:nvPr/>
          </p:nvSpPr>
          <p:spPr>
            <a:xfrm>
              <a:off x="5715000" y="3071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.. on weekends.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8"/>
          <p:cNvSpPr/>
          <p:nvPr/>
        </p:nvSpPr>
        <p:spPr>
          <a:xfrm>
            <a:off x="4214880" y="20001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r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ly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7358040" y="20718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l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57120" y="19288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usu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929120" y="61437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of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143080" y="63342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ome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500200" y="19288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学习目标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 Can read and translate 2b fluently and correctl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能够流利并且正确的读译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 Can master and use the key points correctl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能够掌握并正确运用重要知识点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9217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自学指导（一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同学们根据汉语提示完成单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求：书写规范  独立完成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You are the best !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0241"/>
          <p:cNvSpPr/>
          <p:nvPr/>
        </p:nvSpPr>
        <p:spPr>
          <a:xfrm>
            <a:off x="84240" y="-1440"/>
            <a:ext cx="89755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宋体"/>
              </a:rPr>
              <a:t>自学指导  答案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发现我们的学生中只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每天锻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都知道许多学生经常上网，但是让我们惊讶的是，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人每天使用网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很多学生喜欢看体育节目，但是最受欢迎的是游戏节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使用网络观看游戏类节目来放松是件好事，但我们认为最佳的放松方式是通过锻炼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文本框 3"/>
          <p:cNvSpPr/>
          <p:nvPr/>
        </p:nvSpPr>
        <p:spPr>
          <a:xfrm>
            <a:off x="-30240" y="152280"/>
            <a:ext cx="92948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k sb about sth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向某人询问关于某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always asks me about pop musi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k sb.(not) to do sth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请求某人去做某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 teacher asked me to clean the roo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k sb. for sth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向某人要求某物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k for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寻求  要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5840" y="99720"/>
            <a:ext cx="89442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i="1" lang="zh-CN" sz="4000" spc="-1" strike="noStrike">
                <a:solidFill>
                  <a:srgbClr val="000000"/>
                </a:solidFill>
                <a:latin typeface="Comic Sans MS"/>
              </a:rPr>
              <a:t>倒装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 are the resul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Here is/are +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主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其他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完全倒装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其中谓语动词要与后面的主语保持一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 is a ticket for you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 are some bananas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若主语为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时，用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完全倒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主语在前，谓语在后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 she 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1"/>
          <p:cNvSpPr/>
          <p:nvPr/>
        </p:nvSpPr>
        <p:spPr>
          <a:xfrm>
            <a:off x="76320" y="152280"/>
            <a:ext cx="89913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percent   n.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百分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..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数词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+percent+of+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，做主语时，其谓语动词要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后面的名词决定。 名词是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不可数名词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时，谓语动词用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单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，名词为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复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时，谓语动词用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复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is said that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35 percent 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doctors  are wom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re th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0 percent o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earth is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04:51Z</dcterms:created>
  <dc:creator>ell</dc:creator>
  <dc:description/>
  <dc:language>en-US</dc:language>
  <cp:lastModifiedBy>大宝宝。。</cp:lastModifiedBy>
  <dcterms:modified xsi:type="dcterms:W3CDTF">2018-06-19T22:56:50Z</dcterms:modified>
  <cp:revision>2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  <property fmtid="{D5CDD505-2E9C-101B-9397-08002B2CF9AE}" pid="3" name="NXTAG2">
    <vt:lpwstr>0008004820000000000001024120</vt:lpwstr>
  </property>
</Properties>
</file>